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CED-023A-47E3-8E4A-565A5A07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276-258D-49DC-B61D-7DA6465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C95-CED6-4621-ADF4-7680487D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F22-304A-4AD4-85B3-B9EB2CBB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180-A88F-4533-8408-4232B653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34B-139C-4C1A-A82C-5C5C14A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5FA-CAF7-46DB-92F3-DE33925D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3A3-0915-49C4-B7BE-6491A01F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DE8-9110-4334-990D-0B38830C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FC7-C18D-4B47-AD08-576BF4B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A98-5AB2-4774-99F2-F285392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EC3-A6C8-4F5B-82D9-A2AC046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, Ideology, Socialization an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666880" y="83808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litics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Who we are, How we Vote and How’d we get there?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ulture Wars??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v. Orthodox ---load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- Move forward, expand rights, be more tolerant and accepting of alternative life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ted by Urban, highly educated, high income; some have weak religious affiliations, secular humanism, strong amongst Methodists, Episcopalians, Low church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dox- claim increased Tolerance has led to claims of moral relativism and a decline in mor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, maintain values, dominated by rural, often less educated (not always), more common amongst fundamental and evangelical churches.  High church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6324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held beliefs leave little room for com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olitical Ideology- How do we reach the goals of our “political culture”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652140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77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Political Socialization- The computer determines the Party of your choice is….(Today, Databases are collected of everything you can think of, trying to narrow down how a person will likely vote)</a:t>
            </a:r>
            <a:br>
              <a:rPr sz="4000"/>
            </a:b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s (Always Evolv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- Direct and the most substa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xed. Post Graduate Democrat, College Graduate- Republica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coming More m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higher incomes were associated with Republican v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b typ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istorically, white collar Republican, Blue Collar (union) Democrat, today few Blue Collar jobs and many lower paid white collar j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y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lue v. Red.. The Coasts v. the S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ng States, the Rust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tends to be liberal, rural tends to be conservative (see populist).  Suburban is the swing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igion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rrelation w/Frequency of Church Atten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lics vote Democrat, Protestants vote Republican (cleavage- Abortion issue, other social conservative iss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wish people tend to vote Democ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c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specially High amongst African American (Pres. Bush received less than 10% of African American Vote in the 2000 Election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nicity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ispanics, tend to vote Democratic, except Cubans who vote Republican (see Fla. 2000 Presidential el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5800" y="62485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6095880"/>
            <a:ext cx="9144000" cy="5806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you know that if you drive a Mercury there is a overwhelming likelihood that you vote Republi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eft, Right and Somewhere in between (% in 1994)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iefs surrounding these terms have historically chan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52480" y="1828800"/>
          <a:ext cx="685800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259056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vor Govt.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Govt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issez-fa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vor Govt Intervention on social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i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ink William Jennings Bryan, want prayer in school and Govt to help the worker), e.g. Reagan Democr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e Conservativ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rable to drug laws, prayer in school etc, little the economy run as it does..)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Govt Intervention on social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e Liber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 safety net, free speech, no religion in school, right to choose. Govt is necessary to intervene in the economy to provide equality of Opporutunity-ie affirmative a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taria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t. only to ensure safety, ie. Police, Firefighters, Military,  No Drug laws, Privatize education and other governmental institutions, Few, if any business regulat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22"/>
          <p:cNvSpPr/>
          <p:nvPr/>
        </p:nvSpPr>
        <p:spPr>
          <a:xfrm>
            <a:off x="533412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0" y="40384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:Govt. intervention moral issues and polic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servat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ally- Government should not interfere in th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ly- Government should interfere to ensure morality, crime pre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 popular amongst older, Midwest, White financially better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Popul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Govt. Intervention to ensure equal opportunity, Break Monopo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Govt. Intervention on So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 Prayer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Polic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, popular in Midwest, Farming communities, Union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iberal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Should interfere to ensure a proper working capitalist economy (eg. Breaking monopoly’s), ensure equal opportunity (affirmative action), progressiv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should interfere to ensure rights…eg. Advance Civil Rights (see Progressives), Criminal Defendant Rights, stay out of 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r secula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amongst well educated, urban, young, common in northeast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ibertarian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- Little to no intervention in th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is solely for protection, fire, police and military.  Little to know govt. intervention outside of tho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- Little to no intervention on social issues, except to expan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, if any limits on person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rug laws, No prostitution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amongst well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Who Participates and Why?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- The Electorate- Voting Age who are eligible to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ger the “office” up for election the bigger the tur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out in America is LOWWWWW- Last Presidential Election- 50 yr record- 60% v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centage of Americans are not regi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Who does and doesn’t vot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people Vote-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ly programs-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il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r people don’t vote- Low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Incom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Educate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s vote in highest %, Hispanics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ly- Jews vote in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involvement correlates w/high %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s Vote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rrelation- trust/distrust govt and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Elections be different if more voted? doubt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olitical Culture-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A distinctive and patterned way of thinking about how political and economic life</a:t>
            </a:r>
            <a:br>
              <a:rPr sz="4000"/>
            </a:b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ought to be carried out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We as a country believe…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Bring out the Vote and Get Fraud, Harden the Rules and exclud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Democrats- Increased Voter Participation- Growing Popu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860 only one state (S. Carolina) did not select their Electoral Votes by popular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- Record Turnout (sometimes higher than the population, unless you include the cemet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% Voter Fraud- Not a secret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Parties Strong- Strong Patronage- Political Machines, (Boss Tw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People could vote (Blacks, Women, Yo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dy- Proposed by Progr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Ballot- Secret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Residency Requirements, Citizenship, Lite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elton Civil Service Act (1883) limited patro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en-US" sz="4000" spc="-1" strike="noStrike" baseline="30000">
                <a:solidFill>
                  <a:srgbClr val="1f497d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Century attempts to increase voter turnou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s- Unco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Tests and Grandfather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esidenc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r Rights Act of 1965 (Civil Rights Act 1957, 19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Govt. Intervenes, supervises Election where minorities vote in % disparate with their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oter Law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Registration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Voter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onal Amendent- Women and 18-21 yr o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laws increased permissiveness on mail bal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Volunteers of Americ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get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ers- clearly id w/a political party, get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alists- Get involved in part for the social aspect- not particularly part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ochial Participants- Don’t Vote but like to W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sts- Guess What?…they get involved, tend to be better educated and financially better off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arty system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Elections are base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Majority, so little need for coalitions to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al System and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1f497d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Parties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long lasting influential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an Party (1854) combined Northern Whigs with Free Soil Party, Know Nothings, Abolitio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es have been either short in duration or incon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Duration may have an impact on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Protest Partie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ulist, American Reform Party, Issue taken up by Major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ion: Splits within the Pa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ll Moose Party, Republican Party, Progressive Party (1948), State’s Rights Party (1948).  Party reunifies, some go to other pa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n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ological Partie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ist, Libertarian (may have some consequenc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Iss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ight to Life Party, Green Party (recently a broader platform), Abolition Party, Free Soil Party.  Often the issue either disappears or other parties take it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ominating For Offic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ignatures- Getting on th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Nomination-If Party 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 (N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(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ket (Ca.) Questions about its constitutionality, Voter gets all the potential candidates from both (all) parties, does not have to stick to one party-Republican Governor, Democratic Se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cus (Io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Generally Accepted Belief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Practice our religion as we w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where we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our 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our sp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ise through the ranks, cross social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Speak ou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be free of unwarranted Govt. Intr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ty of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ty of treatment under the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s above the law, no one is below the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ity R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c Du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ligation to take part in civic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merica v. Rest of the World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think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willing to accept govt. interference with the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arn what you ea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Class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 Du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- Belief in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o Spirit…American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Deferential to Authority (like you need to know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merican “Can Do” Spirit and Economic Equality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Opportunity rather than Economic Equality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sponsibility and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Reliance- Climb the ladder- “My grandparents came off the boat and they made it s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Work ethic and Capitalism (theory by German sociologist, Max Web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hard work and capitalism go hand in hand (not as widely accepted as at on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ose…if they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u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y..not those cadillac driving welfare recepi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Religion and America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t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ically may have led the US to be the most religious Develope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if not 3 to 4 Great Awakenings in US history have helped shape US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igher church attendance than other 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’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to vote for an athe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to accept the theory of evolution and more likely to be creationists ( early 2000s poll- appr. 45% firmly believe in Creationism, appr. 25% firmly believe in ev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ikely to believe that there is a God (and angel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Church (often the claim is much more than the re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or cleavages- variety of religious affiliations give a wide range of policies and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“de Tocqueville”, another opportunity for civic activity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Efficacy and Civic Competenc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understand what’s going on and therefore am I capable of making an informative decision on who to vote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ffect what’s going on, in other words can I fight city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explain the downward trend in voting over the past 60 year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rust in Govt.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trust their own politicians but don’t trust the institutions of Gov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in Govt. has declined since 1970s (blip after 9/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for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Scandals *Watergate*, Abscam, Iran-Contra, Check Scandal, Monicagate, Abramoff-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Oppositional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Govt. Intervention- High Crime Rates, Povert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A More Tolerant Society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60 years America has become a more toleran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 Rights Movement, - Race, Gender, Disabilities, Homosexual.  Intervention by the State to end Discr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s are more accepting of a multitude of lifestyles and a variety of religions and ethni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have played a dominant role- (Equal Protection Clause, First Amendment interpre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6:03:54Z</dcterms:created>
  <dc:creator>Darien Public Schools</dc:creator>
  <dc:description/>
  <dc:language>en-US</dc:language>
  <cp:lastModifiedBy>Administrator</cp:lastModifiedBy>
  <dcterms:modified xsi:type="dcterms:W3CDTF">2011-02-15T12:40:33Z</dcterms:modified>
  <cp:revision>53</cp:revision>
  <dc:subject/>
  <dc:title>Who we are, How we Vote and How’d we get there?</dc:title>
</cp:coreProperties>
</file>